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EE6-7081-4E2D-A150-B437E7EF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499-F1F2-4EFE-854B-AC1F4063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3C5-BF32-4EB9-8D04-03B1015F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70D-6534-4F11-A2E1-026F18CC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A84D-308D-4935-B888-EB362E3D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CA1F-6B15-4449-803F-60C4DB7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D44C-7B10-4683-9696-8DE673FE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1825-6D0C-4DEC-AAF5-8DE97EF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FE16-086F-46DE-94FE-43A42F6D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5F1D-5437-40A6-8453-41E06647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8A44-ADE8-4CFB-AB9E-54911AF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FD9-D456-4E23-9755-1E951A0F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831E-37FF-4B0D-92B6-35C68A8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4166-53BE-4D6D-BEEC-F3310266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BFD0-6DC7-4480-8976-1479CF88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94DA-CA22-47DD-A172-9AA6A1BE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12C0-9BF0-4ABA-B0EB-F5D13A20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093-AA91-4C9A-80FF-EE8FF487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086-1F65-48F7-B9BF-40A26A75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0B3-D3D6-4D57-A69C-0BBB3053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1B0-E363-4AE8-BA42-17D12C7A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249-C212-4F1B-BFDE-B5A42CCC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8C8-80E8-49D7-96E6-C32512C2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06D-7C76-4BFA-ADFB-4C218C26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18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5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41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2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35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4949-054D-47FE-892A-63D54814F451}" type="datetime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FA10-B0F4-4C5C-9C77-3CE83737BBE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5560"/>
            <a:chOff x="-468360" y="-293400"/>
            <a:chExt cx="9765000" cy="767556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5560"/>
              <a:chOff x="-468360" y="-293400"/>
              <a:chExt cx="9765000" cy="767556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55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436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24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4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384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81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83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136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368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468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2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24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2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29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140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60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39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1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124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60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15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58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80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67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0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795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836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480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66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43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588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2320" y="-1479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1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098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1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228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17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65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795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836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480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66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43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588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196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0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1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228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1640" y="1502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17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65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484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276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8920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56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67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48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63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516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83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31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29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18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368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897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5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296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04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748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86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74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0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26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70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7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3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66600"/>
              <a:ext cx="8876160" cy="2536200"/>
              <a:chOff x="97560" y="2766600"/>
              <a:chExt cx="8876160" cy="253620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588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4760"/>
                <a:ext cx="8745120" cy="223920"/>
                <a:chOff x="228600" y="352476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476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848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4400"/>
                <a:ext cx="8745120" cy="223560"/>
                <a:chOff x="120600" y="343440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440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812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4800" y="2766600"/>
                <a:ext cx="2102040" cy="2152080"/>
                <a:chOff x="154800" y="2766600"/>
                <a:chExt cx="2102040" cy="215208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09528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2320" y="3720960"/>
                  <a:ext cx="366840" cy="109728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880" y="3394080"/>
                  <a:ext cx="1379520" cy="36036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69400" y="3359520"/>
                  <a:ext cx="883800" cy="86112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59160" y="3658680"/>
                  <a:ext cx="527040" cy="52092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02E1-E058-4902-AC37-6DD0105EB3BA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408E-A7AD-4B18-B77A-06EAFCC9B6A6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48C0-439B-4482-9312-AFD8E9C7D1F3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Rectangle 10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Rectangle 10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069F-1054-4D85-8FDD-E64B137F37B9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Actualización en Propiedad Horizontal-Retención IV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RG (AFIP) 3164  Régimen de Retención del Impuesto al Valor Agregad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Procedimient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Arial Narrow"/>
              </a:rPr>
              <a:t>a) El Administrador deberá concurrir por única vez a la dependencia de AFIP en la que se encuentre inscripto el consorcio a efectos de solicitar mediante Formulario Multinota (F 206)  el código de usuario y clave de acceso al sistema informático donde se encuentra el citado archiv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AA4D-56E0-451B-A559-C8C723E2A6AB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F496-5BF6-4AC2-8DBE-FAE83EAC27BA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Link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https://afipreproweb.gob.a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7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6C8B-3E79-4818-AD6D-290AE6A83F2F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0680-737C-48EA-BC50-9A057F392C83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Requisito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CUIT  del Consorcio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CUIT del Proveedor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Mes y año de pago de las operacion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-  -  - - - - - - - - - - - - - - - - - - - - - -  - - - - - - - - - - - -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Reporte: Régimen de retención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7413-87D4-424D-B886-4BBCA871B0DC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9F73-07ED-45A1-9E15-44BBB63E2FBB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7BC4-9407-43ED-B672-058747E92CC5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12CE-CE8C-49C1-8414-4DD759C192FE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Consulta sobre la condición fiscal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b) Constatar la condición que revistan frente al IVA, mediante el sitio “web” la AFIP de acuerdo con lo establecido en la RG N° 1817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0ACE-055D-4C8E-9939-98AAAF813ABD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D93A-35EA-4040-A33A-96DE894BC912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Sujetos excluido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a) Los enumerados en los incisos a) y b)del Art. 5° del la RG 2854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b) Las cooperativas de trabajo conformadas exclusivamente por asociados que revistan la condición de Monotributistas inscripto en el Registro Nacional de Efectores de Desarrollo Local y Economía Socia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134A-3B99-4D6D-B546-7D56062E8F29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3E64-E7B9-4CB6-B2EC-B4A0C83EF63A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Artículo 6°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Los sujetos obligados a actuar como agentes de retención por la resolución general 2854 y sus modificaciones, deberán cumplir con las obligaciones previstas en dicha norma respecto de las operaciones alcanzadas por esta resolución general, en sustitución del régimen que se establece por la presente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F523-9006-46EC-A8B1-D20EE0CCE6D9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0651-FBBA-4032-A799-31F78CC45A8A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Oportunidad de la retenció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La retención deberá practicarse en el momento en que se efectúe el pago de los importes atribuibles a la operación, incluidos aquellos que revistan el carácter de señas o anticipos que congelen precios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26B-DB82-4D15-BA62-9D2272DFA4C8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258E-B5A7-4D22-B894-D7678CE8865C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Oportunidad de la retenció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De realizarse pagos parciales, el monto de la retención se determinará considerando el importe total de la respectiva operación. Si la retención a practicar resultara superior al importe del pago parcial que se realice, la misma se efectuará hasta la concurrencia de dicho pago, afectándose el excedente de la retención no practicada a los sucesivos pagos parciales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Pago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Según art. 18 de la Ley de Impuesto a las Ganancias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B773-5DAD-407D-84F3-84500878365A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383D-259E-4657-90E1-3DF619C47AB4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DD21-6573-4C59-9410-041F012395FB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40D-ED1A-4804-9614-D6EA0EB4744C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No Retenció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No corresponderá practicar la retención cuando el importe de la operación se cancele sólo mediante la entrega de bienes o la prestación de servicios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Introducció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Antecedente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RG (DGI) 3139/1990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Consorcios de Propiedad Horizonta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BB88-208F-4AF2-A8FA-916BC2DE2E49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5638-8328-48B9-BEA3-10A3F6141D5E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AB5E-6A77-4935-A2AF-52D353A4DBCC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DBA0-73A0-41CA-B68B-7A42216FEE03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Importe a retener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El importe de la retención se determinará aplicando sobre el precio neto de la operación -conforme a lo establecido en el artículo 10 de la ley del impuesto al valor agregado, texto ordenado en 1997 y sus modificaciones-, que resulte de la factura o documento equivalente, las alícuotas que, para cada caso, se indican en el artículo 10 de la presente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A3A3-F322-4520-9F5F-8E1524DCCD93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B59-86CF-4C3C-AE3D-F80B53DE08E3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Alícuota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A efectos de la determinación de la retención corresponderá aplicar las alícuotas que se indican seguidamente, de acuerdo con el resultado de la consulta efectuada conforme a lo dispuesto por el artículo 4, sobre la condición del sujeto pasible de la retención ante esta Administración Federal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30AF-E717-4987-8304-E242E59F6173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EAC4-9808-43A8-8035-0811417B060E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Alícuota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a) DIEZ CON CINCUENTA CENTÉSIMOS POR CIENTO (10,50%): en las operaciones efectuadas por los sujetos comprendidos en el inciso a) del artículo 3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373F-B72E-4B18-B2B0-1C0C85D861F1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D070-F0E2-4FD5-B9EC-E865CC127DBC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Alícuota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b) VEINTIUNO POR CIENTO (21%)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1. Operaciones efectuadas por sujetos que no acrediten su calidad de responsables inscriptos en el impuesto al valor agregado, exentos o no alcanzados o, en su caso, de pequeños contribuyentes inscriptos en el Régimen Simplificado para Pequeños Contribuyentes (RS)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D6C6-90E9-4E15-8E0A-09C2AE0F02CB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0C1A-A006-44BF-AAB8-84176358015F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Alícuota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Arial Narrow"/>
              </a:rPr>
              <a:t>2. Cuando como resultado de la consulta al “Archivo de Información de Proveedores” el proveedor resulte comprendido en alguna de las siguientes situaciones: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Arial Narrow"/>
              </a:rPr>
              <a:t>2.1. Incumplimientos respecto de la presentación de las declaraciones juradas tributarias y/o previsionales, tanto informativas como determinativas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Arial Narrow"/>
              </a:rPr>
              <a:t>2.2. Irregularidades -como consecuencia de acciones de fiscalización- en la cadena de comercialización del proveedor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4794-AF25-4247-AD7C-0DF71122ACDA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8B56-F3A7-4945-B1A3-98FC6F87F5A9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Alícuota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Arial Narrow"/>
              </a:rPr>
              <a:t>Cuando el impuesto al valor agregado no se encuentre discriminado en la factura o documento equivalente, la retención se determinará aplicando, sobre el importe total consignado en esos documentos, los porcentajes que, en sustitución de los establecidos en los incisos a) y b) del artículo 10, respectivamente, se establecen a continuación: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Arial Narrow"/>
              </a:rPr>
              <a:t>a) OCHO CON SESENTA Y OCHO CENTÉSIMOS POR CIENTO (8,68%)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Arial Narrow"/>
              </a:rPr>
              <a:t>b) DIECISIETE CON TREINTA Y CINCO CENTÉSIMOS POR CIENTO (17,35%)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8AD-3C5A-469D-959C-904632D9F212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8D3D-AE0F-4E7E-A4DD-63A71E285EE2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Imposibilidad de oponer exclusión del régimen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Los sujetos que realicen las operaciones indicadas en el artículo 1 no podrán oponer, respecto de las mismas, la exclusión del régimen que se le hubiera otorgado de acuerdo con lo previsto por la Resolución General 2226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1214-9149-4FD3-88EB-92FDACC2ED15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729E-B925-47A9-BFCA-02CE9122AAD3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Base mínima de retenció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No corresponderá practicar la retención cuando el importe neto de la operación que resulte de la factura o documento equivalente sea inferior a OCHO MIL PESOS ($ 8.000)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Facturación parcial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Arial Narrow"/>
              </a:rPr>
              <a:t>A los efectos de la determinación del importe a retener, deberá considerarse la sumatoria de los importes correspondientes a las sucesivas facturas o documentos equivalentes, quedando todos ellos sujetos al presente régimen cuando dicha adición supere el monto de OCHO MIL PESOS ($ 8.000.-)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6AA3-5761-43BE-81E2-5CED7ADCA7CE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C4A7-643F-45C3-975C-E34AFD4BA56D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8610-4FD8-4C5C-8C7F-72D2F271A8A5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42EB-E32C-44F6-A249-16FC06121F78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Formas y plazos de ingresos de las retenciones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Arial Narrow"/>
              </a:rPr>
              <a:t>El ingreso de las retenciones practicadas -y de sus accesorios de corresponder-, se efectuará conforme al procedimiento, plazos y demás condiciones previstos en la Resolución General N° 2233, sus modificatorias y complementarias, Sistema de Control de Retenciones -SICORE-, utilizando los códigos que se establecen en su ANEXO II “SISTEMA DE CONTROL DE RETENCIONES Y/O PERCEPCIONES TABLA DE IMPUESTOS - CÓDIGOS”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Referencias Normativa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RG (AFIP) 2854/10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RG (AFIP) 2233/07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RG (AFIP) 1817/05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7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939C-7BBE-4698-9C17-6517C4E1EAD5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9550-97FF-480E-A465-06C274F5ECB4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RG N° 2233 - SICORE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Arial Narrow"/>
              </a:rPr>
              <a:t>Asimismo, estarán sujetas a lo dispuesto en la citada resolución general las sumas retenidas en exceso y reintegradas a los sujetos pasibles de retención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2C64-DEF8-47AE-923D-E7E842370BD0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41BD-DF2F-4C37-A557-40F892D0B0BB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BB28-1697-4D0A-9C3E-0228DDC6BA28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AAB7-F41B-44A7-8741-55C49813EE63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Código                     Descripción</a:t>
            </a:r>
            <a:br>
              <a:rPr sz="4000"/>
            </a:b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                                Operación</a:t>
            </a: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685800" y="2349360"/>
          <a:ext cx="7772400" cy="3078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Impuesto   </a:t>
                      </a:r>
                      <a:r>
                        <a:rPr b="0" lang="es-AR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es-AR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Régimen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67                     83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Locación de obras, locaciones y prestaciones de servicios realizados por empresas de limpieza de edificios, investigación y seguridad, y recolección de residuos domiciliarios.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5DEB-7F4C-4A4B-BE2C-CBDCA7FB4F62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9DAA-0A30-42F1-BF76-2AAD3383F5B8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Comprobante de retenció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Arial Narrow"/>
              </a:rPr>
              <a:t>Los agentes de retención quedan obligados a entregar al sujeto pasible de la misma, en el momento en que se efectúe el pago y se practique la retención, el comprobante que establece el inciso a) del Artículo 8º de la Resolución General Nº 2233, sus modificatorias y complementarias,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Comprobante de retenció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Arial Narrow"/>
              </a:rPr>
              <a:t>conforme al modelo previsto en su ANEXO V "MODELO DE CERTIFICADO DE RETENCION PARA SUJETOS DOMICILIADOS EN EL PAIS"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7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4D91-9E0C-4DAA-8B33-FB5DC2B4D436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61B1-0103-4D67-A12A-04A12363B700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16F2-B781-41D6-8B14-BCD2BC147C4B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AF5C-EC8F-4B26-AF86-60C3D8C33E1E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Carácter de la retenció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es-MX" sz="3200" spc="-1" strike="noStrike">
                <a:solidFill>
                  <a:srgbClr val="333333"/>
                </a:solidFill>
                <a:latin typeface="Arial Narrow"/>
              </a:rPr>
              <a:t>El importe de las retenciones practicadas a los sujetos a los que se refiere el inciso a) del Artículo 3º, consignado en el comprobante indicado en el Artículo 16, tendrá el carácter de impuesto ingresado y podrá ser computado en la declaración jurada del período fiscal en que se efectuaron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C90A-3A85-41C8-82D9-4F38A468F4E1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7A2C-3750-4657-8563-074980B05868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Vigenci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 Narrow"/>
              </a:rPr>
              <a:t>Las disposiciones establecidas en la presente resolución general resultarán de aplicación a las operaciones y sus respectivos pagos, que se realicen a partir del 1/11/2011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4C7C-F202-4312-800A-83EC35A9DE87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38B9-4541-4231-ACF6-58FB4039BEE3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AR" sz="4000" spc="-1" strike="noStrike">
                <a:solidFill>
                  <a:srgbClr val="007572"/>
                </a:solidFill>
                <a:latin typeface="Arial Narrow"/>
              </a:rPr>
              <a:t>Muchas gracias por su atención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4E38-45C0-49B8-BDD8-008CBB0C1C8B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B9B1-ACD1-4A45-B1AB-B938F14C00D9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OPERACIONES ALCANZADA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De Servicios de Limpieza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De Investigación y/o Seguridad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De Recolección de Residuos Domiciliario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936A-66D5-4C16-9C55-6D2C915A24CF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46EE-115E-43C2-9835-4E7B694208AA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Sujetos obligados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Art. 2° Inc. c)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Los consorcios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90AB-A1E4-4F77-BC16-C8E3907A75BA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8FF9-8B4B-4FFA-BBC9-A8D676B36D0C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Sujetos pasibles de retención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a) Revistan como inscriptos en el impuesto al valor agregad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b) No acrediten su calidad frente al IVA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RI, Exento, No Alcanzados o en su caso, Monotributistas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6101-F5E8-4C24-971B-0976A604E2E3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Rectangle 10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Rectangle 10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3674-B073-475D-8EDA-F79133368CCE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Consulta sobre la condición fiscal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Los consorcios quedan obligados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a) Consultar el “Archivo de Información sobre Proveedores” que prevé la RG N° 2854 y a cumplir don el Anexo IV “PROCEDIMIENTO PARA LA CONSULTA AL ARCHIVO DE INFORMACIÓN SOBRE PROVEEDORES”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RG N° 2854 Anexo IV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Consulta padrón de proveedore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33"/>
                </a:solidFill>
                <a:latin typeface="Arial Narrow"/>
              </a:rPr>
              <a:t>La consulta se efectuará  por proveedor y tendrá validez para un mes de pago determinad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1780-0574-40BD-8465-D555D0B7E8B2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2B85-992E-4B3C-9337-365AC3B5671F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7572"/>
                </a:solidFill>
                <a:latin typeface="Arial Narrow"/>
              </a:rPr>
              <a:t>Período de la consulta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Arial Narrow"/>
              </a:rPr>
              <a:t>A efectos de determinar el porcentaje de retención a aplicar para los pagos de un determinado mes calendario, la consulta deberá efectuarse desde el día 15 del mes inmediato anterior al pago y hasta el último día, inclusive, del mes calendario de dicho pago.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7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7EC2-EE91-452D-ACDC-D093760A6447}" type="datetime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RG 3164 RETENCIÓN DE IVA A EMPRESAS TERCERIZAD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2547-F5D8-427F-B53B-38178A17D36A}" type="slidenum"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2:20:50Z</dcterms:created>
  <dc:creator>Leopoldo Gurovich</dc:creator>
  <dc:description/>
  <dc:language>en-US</dc:language>
  <cp:lastModifiedBy>Usuario</cp:lastModifiedBy>
  <dcterms:modified xsi:type="dcterms:W3CDTF">2011-11-22T13:58:47Z</dcterms:modified>
  <cp:revision>12</cp:revision>
  <dc:subject/>
  <dc:title>Diapositiva 1</dc:title>
</cp:coreProperties>
</file>